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9AE-969E-4166-B6D0-BFE7B7DD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D03-7D38-4176-8D8D-3DE33B2A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16E-0231-4035-B2D7-F0CE8E68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13F-2C69-460E-B1D8-9ADEADC7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572-FB14-4461-B12C-3D3BCB95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952-CC21-48EC-86DF-8BA951C0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2E6-FF6E-435A-91E1-1D8002E6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356-9139-4220-A5C3-0D61D3C6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C9E-8335-43AD-A39B-12189413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A15-922E-49D4-907E-EB72FA93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46F-98F8-4B5D-885E-0FE049E8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4C0-B0EE-4DBB-829E-512E5816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5A93-7CC4-4F47-915A-BEE289D191F6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785880"/>
            <a:ext cx="7223400" cy="4932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365040" y="-237960"/>
            <a:ext cx="232236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572160" y="-237960"/>
            <a:ext cx="2853000" cy="22748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279440" y="12600"/>
            <a:ext cx="506088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213280" y="500040"/>
            <a:ext cx="39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تالار ، باغ ، باغ و تال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64372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50:57Z</dcterms:modified>
  <cp:revision>48</cp:revision>
  <dc:subject/>
  <dc:title>Slide 1</dc:title>
</cp:coreProperties>
</file>